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611-D2A2-424A-962C-E0B8F6E4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ABB-EC7E-43F8-90FC-FECF98C7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2C9-C537-48DD-8A50-44B1647A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186-197E-430C-B99A-ACB70C22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665-281A-495C-8772-5AA4CB0A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BA1-9DE6-40E5-87C1-5919160A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B9E1-A582-4390-84B6-91A42F85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463-7A93-4552-B14C-62FB9791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B5D-7BAF-4AC1-88E7-836F15FF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453-9C2D-42AE-AF1C-7B3119FA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B4E-6663-4D65-B536-EAF27F07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E78-7115-4EE6-BF81-496059B2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0318-03B8-42CC-97D7-0909B7472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642600"/>
            <a:ext cx="7772400" cy="1469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неурочная деятельность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 информати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00120" y="31431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98989"/>
                </a:solidFill>
                <a:latin typeface="Calibri"/>
              </a:rPr>
              <a:t>через дистанционные мастер-кла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intel.jpg"/>
          <p:cNvPicPr/>
          <p:nvPr/>
        </p:nvPicPr>
        <p:blipFill>
          <a:blip r:embed="rId1"/>
          <a:stretch/>
        </p:blipFill>
        <p:spPr>
          <a:xfrm>
            <a:off x="428760" y="5072040"/>
            <a:ext cx="83484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перекр.jpg"/>
          <p:cNvPicPr/>
          <p:nvPr/>
        </p:nvPicPr>
        <p:blipFill>
          <a:blip r:embed="rId1"/>
          <a:stretch/>
        </p:blipFill>
        <p:spPr>
          <a:xfrm>
            <a:off x="0" y="1285920"/>
            <a:ext cx="8934480" cy="41432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57200" y="274680"/>
            <a:ext cx="8258040" cy="1011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Примеры перекрестной прое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011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Итоговая 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38160">
            <a:solidFill>
              <a:srgbClr val="dce6f2"/>
            </a:solidFill>
            <a:miter/>
          </a:ln>
        </p:spPr>
        <p:txBody>
          <a:bodyPr anchor="t">
            <a:normAutofit/>
          </a:bodyPr>
          <a:p>
            <a:pPr marL="14302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и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43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зывы на форуме или бло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ый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с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лекция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302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4302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302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43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рефлексия.jpg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4063680"/>
          </a:xfrm>
          <a:prstGeom prst="rect">
            <a:avLst/>
          </a:prstGeom>
          <a:ln w="0">
            <a:noFill/>
          </a:ln>
        </p:spPr>
      </p:pic>
      <p:sp>
        <p:nvSpPr>
          <p:cNvPr id="67" name="Заголовок 1"/>
          <p:cNvSpPr/>
          <p:nvPr/>
        </p:nvSpPr>
        <p:spPr>
          <a:xfrm>
            <a:off x="457200" y="274680"/>
            <a:ext cx="8258040" cy="1011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Пример рефлек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станционный мастер-класс «представление информац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 принципу  мастер-клас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алактики Ин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лако мастер-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00040" y="1428840"/>
            <a:ext cx="8215200" cy="5064120"/>
          </a:xfrm>
          <a:prstGeom prst="rect">
            <a:avLst/>
          </a:prstGeom>
          <a:ln w="38160">
            <a:solidFill>
              <a:srgbClr val="8eb4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38160">
            <a:solidFill>
              <a:srgbClr val="8eb4e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зит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ttp://calendarum.ru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лако слов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dle.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рт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R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дир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нта времен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продв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Screenshot - 27.08.jpg"/>
          <p:cNvPicPr/>
          <p:nvPr/>
        </p:nvPicPr>
        <p:blipFill>
          <a:blip r:embed="rId1"/>
          <a:stretch/>
        </p:blipFill>
        <p:spPr>
          <a:xfrm>
            <a:off x="285840" y="1428840"/>
            <a:ext cx="864540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имущ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381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шение вопроса наличия кабинета и хорошего интерн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работать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гими облачными сервисами (наприме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l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комство учащихся с облачными технолог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влечение в сетевые прое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38160">
            <a:solidFill>
              <a:srgbClr val="dce6f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значение сроков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умать оцени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сколько мы наблюдательны?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Microsoft4.JPG"/>
          <p:cNvPicPr/>
          <p:nvPr/>
        </p:nvPicPr>
        <p:blipFill>
          <a:blip r:embed="rId1"/>
          <a:stretch/>
        </p:blipFill>
        <p:spPr>
          <a:xfrm>
            <a:off x="0" y="3643200"/>
            <a:ext cx="4643280" cy="1857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Microsoft.png"/>
          <p:cNvPicPr/>
          <p:nvPr/>
        </p:nvPicPr>
        <p:blipFill>
          <a:blip r:embed="rId2"/>
          <a:stretch/>
        </p:blipFill>
        <p:spPr>
          <a:xfrm>
            <a:off x="4600440" y="1714680"/>
            <a:ext cx="4543560" cy="1817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Microsoft2.JPG"/>
          <p:cNvPicPr/>
          <p:nvPr/>
        </p:nvPicPr>
        <p:blipFill>
          <a:blip r:embed="rId3"/>
          <a:stretch/>
        </p:blipFill>
        <p:spPr>
          <a:xfrm>
            <a:off x="4857840" y="3714840"/>
            <a:ext cx="4286160" cy="17143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Microsoft3.JPG"/>
          <p:cNvPicPr/>
          <p:nvPr/>
        </p:nvPicPr>
        <p:blipFill>
          <a:blip r:embed="rId4"/>
          <a:stretch/>
        </p:blipFill>
        <p:spPr>
          <a:xfrm>
            <a:off x="71280" y="1643040"/>
            <a:ext cx="46944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258040" cy="14288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dugalaxy.intel.ru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ект закрыт 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, опыт бесценен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0040" y="1785960"/>
            <a:ext cx="8143920" cy="4572000"/>
          </a:xfrm>
          <a:prstGeom prst="rect">
            <a:avLst/>
          </a:prstGeom>
          <a:noFill/>
          <a:ln w="381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тельная галактика Красноярского края, август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галактика-краноярск13.jpg"/>
          <p:cNvPicPr/>
          <p:nvPr/>
        </p:nvPicPr>
        <p:blipFill>
          <a:blip r:embed="rId1"/>
          <a:stretch/>
        </p:blipFill>
        <p:spPr>
          <a:xfrm>
            <a:off x="1143000" y="2143080"/>
            <a:ext cx="67867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14240" y="2214720"/>
            <a:ext cx="72471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гистрация на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dugalaxy.intel.r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ыл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пись на мероприятия (вовремя!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бина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стер-класс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скусс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ренинг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скусс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частие в мероприят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 менее двух активностей: Сертифика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57120"/>
            <a:ext cx="8258040" cy="128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нцип участия в конферен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011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Вхождение в проек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57240">
            <a:solidFill>
              <a:srgbClr val="dce6f2"/>
            </a:solidFill>
            <a:miter/>
          </a:ln>
        </p:spPr>
        <p:txBody>
          <a:bodyPr anchor="t">
            <a:normAutofit fontScale="97000"/>
          </a:bodyPr>
          <a:p>
            <a:pPr marL="1387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1. Регистр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сылка на таблицу регистрации (продвижения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айт (блог) проекта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чтовая рассыл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у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2. Знакомство, самопрезентац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изит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сказывание в группе (круг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общение на форуме мастер-клас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тикер на общей дос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бщая кар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387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карта.jpg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4613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25804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кар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круг.jpg"/>
          <p:cNvPicPr/>
          <p:nvPr/>
        </p:nvPicPr>
        <p:blipFill>
          <a:blip r:embed="rId1"/>
          <a:stretch/>
        </p:blipFill>
        <p:spPr>
          <a:xfrm>
            <a:off x="0" y="1360440"/>
            <a:ext cx="9144000" cy="4854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258040" cy="785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общения в групп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3" descr="сайт_МК.jpg"/>
          <p:cNvPicPr/>
          <p:nvPr/>
        </p:nvPicPr>
        <p:blipFill>
          <a:blip r:embed="rId1"/>
          <a:stretch/>
        </p:blipFill>
        <p:spPr>
          <a:xfrm>
            <a:off x="0" y="835200"/>
            <a:ext cx="9144000" cy="5187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356760"/>
            <a:ext cx="8258040" cy="857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мер сайта мастер-клас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58040" cy="10112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85560"/>
            <a:ext cx="8229600" cy="5143320"/>
          </a:xfrm>
          <a:prstGeom prst="rect">
            <a:avLst/>
          </a:prstGeom>
          <a:noFill/>
          <a:ln w="38160">
            <a:solidFill>
              <a:srgbClr val="dce6f2"/>
            </a:solidFill>
            <a:miter/>
          </a:ln>
        </p:spPr>
        <p:txBody>
          <a:bodyPr anchor="t">
            <a:normAutofit fontScale="96000"/>
          </a:bodyPr>
          <a:p>
            <a:pPr marL="1373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Выполнение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7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робные инструкции (приме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ы на форуме или блоге к ведущем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ление проекта (части проекта) в виде ссылки на него в таблице продв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крёстное оцен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73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флексия в конце каждого этап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ценка в балл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ментарии на форум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ы проек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373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7304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73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таблица_продв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23796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таблица_продв_2.jpg"/>
          <p:cNvPicPr/>
          <p:nvPr/>
        </p:nvPicPr>
        <p:blipFill>
          <a:blip r:embed="rId2"/>
          <a:stretch/>
        </p:blipFill>
        <p:spPr>
          <a:xfrm>
            <a:off x="0" y="3405240"/>
            <a:ext cx="9144000" cy="345276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357120" y="214200"/>
            <a:ext cx="8258400" cy="79704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0253f"/>
                </a:solidFill>
                <a:latin typeface="Calibri"/>
              </a:rPr>
              <a:t>Примеры таблиц продв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13:17:14Z</dcterms:created>
  <dc:creator>Таня</dc:creator>
  <dc:description/>
  <dc:language>en-US</dc:language>
  <cp:lastModifiedBy>Таня</cp:lastModifiedBy>
  <dcterms:modified xsi:type="dcterms:W3CDTF">2017-08-29T08:27:09Z</dcterms:modified>
  <cp:revision>39</cp:revision>
  <dc:subject/>
  <dc:title>Внеурочная деятельность</dc:title>
</cp:coreProperties>
</file>